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B0E-D06D-4F28-A136-00E1989B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B9E-F5CA-4768-8B95-5727354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E4D-F5D0-4073-A19C-A9A3E2C2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145-5CFF-45A3-8E33-9CC1332E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2E5-89AB-457E-A888-43B38D7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9F2-A6AC-474D-98B1-70D673F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645-4129-4CAF-9581-7F80A327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116-2E1F-43AD-BF64-B73B223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63D-DD7E-4D29-8034-5B4F0EE6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DC8-39B7-444F-B32B-51A2195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BEA-F0D2-4AAD-AC11-5A325CD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7C9-7BD2-4447-9C75-671A1F0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585A-74EA-461E-9441-B27E7DD3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sung Omn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icu R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zv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R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ţ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Alexandru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_telefon_casti_2"/>
          <p:cNvPicPr/>
          <p:nvPr/>
        </p:nvPicPr>
        <p:blipFill>
          <a:blip r:embed="rId2"/>
          <a:stretch/>
        </p:blipFill>
        <p:spPr>
          <a:xfrm rot="1275000">
            <a:off x="3428640" y="159984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160" y="57636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amsung ne ara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incear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de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as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limite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concur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i cu fiecare telefon nou cu came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 pe care il scoate pe pia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_meniu_foto_setare_dimensiune_fotografie"/>
          <p:cNvPicPr/>
          <p:nvPr/>
        </p:nvPicPr>
        <p:blipFill>
          <a:blip r:embed="rId2"/>
          <a:stretch/>
        </p:blipFill>
        <p:spPr>
          <a:xfrm>
            <a:off x="5257800" y="2057400"/>
            <a:ext cx="373392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in numele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, Omnia, car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limba lati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TOT sau ORICE, cei de la Samsung vor sa ne comunice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au creat un telefon care 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punde la toate dori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evoile noastre: de la conexiuni de date 3G+, la video call-uri 3G, la GPS, la rulare filme divx si mp3-uri, la browsing internet si multe alt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_samsung"/>
          <p:cNvPicPr/>
          <p:nvPr/>
        </p:nvPicPr>
        <p:blipFill>
          <a:blip r:embed="rId2"/>
          <a:stretch/>
        </p:blipFill>
        <p:spPr>
          <a:xfrm>
            <a:off x="6095880" y="1523880"/>
            <a:ext cx="28288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acteristicile teh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utate: 125 gr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nsiuni: 112 x 56.9 x 12.5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işaj grafic color TFT LCD TouchScreen3.2 inch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0×400 pixeli, 65536 cul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era foto 5 megapixe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rt WAP / 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tooth 2.0 + EDR (pentru hands-free, car k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ctare USB – are conector proprie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amsung-omnia"/>
          <p:cNvPicPr/>
          <p:nvPr/>
        </p:nvPicPr>
        <p:blipFill>
          <a:blip r:embed="rId1"/>
          <a:stretch/>
        </p:blipFill>
        <p:spPr>
          <a:xfrm>
            <a:off x="5334120" y="380880"/>
            <a:ext cx="3047760" cy="1771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V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G/3G+(HSDP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Sync Push 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emorie internă: până la 8GB/16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t MicroS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 de operare: Windows Mobile 6.1™ Profes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dband GSM: 850/900/1800/1900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band UMTS/HSDPA: 2100 Mh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_telefon_meniu_stylus_2"/>
          <p:cNvPicPr/>
          <p:nvPr/>
        </p:nvPicPr>
        <p:blipFill>
          <a:blip r:embed="rId1"/>
          <a:stretch/>
        </p:blipFill>
        <p:spPr>
          <a:xfrm>
            <a:off x="7128000" y="685800"/>
            <a:ext cx="200952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oftware si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lefonul vine cu o multitudine de softuri preinstalate din care amintim suita Office Mobile care include Word Mobile,  Excel Mobile si Powerpoint Mobile, doua browsere de internet – Internet Explorer si Opera, Google Maps, Podcasts, DivX Player, Windows Live, Windows Media si multe alt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_telefon_meniu_3"/>
          <p:cNvPicPr/>
          <p:nvPr/>
        </p:nvPicPr>
        <p:blipFill>
          <a:blip r:embed="rId1"/>
          <a:stretch/>
        </p:blipFill>
        <p:spPr>
          <a:xfrm>
            <a:off x="5410080" y="2286000"/>
            <a:ext cx="3505320" cy="25160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v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destul sp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u la dispoz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 (cel p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8 GB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u va opr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 nimic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imeni sa stoc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program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multimedia pe el (cu lic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bin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l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_vizualizare_video"/>
          <p:cNvPicPr/>
          <p:nvPr/>
        </p:nvPicPr>
        <p:blipFill>
          <a:blip r:embed="rId2"/>
          <a:stretch/>
        </p:blipFill>
        <p:spPr>
          <a:xfrm>
            <a:off x="5257800" y="2133720"/>
            <a:ext cx="3657600" cy="2036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1876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e partea de multimedia, acest telefon vine cu o noutate asig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â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d suport pentru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divx. Am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carcat pe el si am rulat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robleme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video de tip avi cu codar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xvid. De altfel, produ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orii spun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supor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urm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oarele formate: AVI, DivX, H.263, H.264, MP4, WMVsi XviD pe partea video si AAC/AAC+, AMR, MP3, OGG si WMA pe partea de aud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_telefon_radio"/>
          <p:cNvPicPr/>
          <p:nvPr/>
        </p:nvPicPr>
        <p:blipFill>
          <a:blip r:embed="rId2"/>
          <a:stretch/>
        </p:blipFill>
        <p:spPr>
          <a:xfrm>
            <a:off x="5410080" y="762120"/>
            <a:ext cx="3494160" cy="4390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otografiere si Fil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general nu sunt un adept al fotografiei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ute cu telefonul mobil.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ici nu voi fi. Motivele sunt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 se poate de obiective: nu mi-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ierde timpul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grafiez ceva anume, un peisaj sau o persoa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entru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grafiile rezultate nu vor avea o calitate decen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entru scos pe hartie.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ta sunt eu, astea sunt convingerile mele si nu prea poti sa ma scoti din 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_meniu_video"/>
          <p:cNvPicPr/>
          <p:nvPr/>
        </p:nvPicPr>
        <p:blipFill>
          <a:blip r:embed="rId2"/>
          <a:stretch/>
        </p:blipFill>
        <p:spPr>
          <a:xfrm>
            <a:off x="5486400" y="3581280"/>
            <a:ext cx="3352680" cy="1994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440" y="837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r,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cerc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rec pest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desc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mod obiectiv: fotografiile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te cu un telefon pot fi uti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sau pentru anumite momente sau pentru postare pe site-uri web unde nu avem nevoie de cin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 ce rezol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. Din acest punct de vedere acea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t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me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5 megapixeli cu autofocus ne poate ajuta foarte b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_meniu_foto_scenes"/>
          <p:cNvPicPr/>
          <p:nvPr/>
        </p:nvPicPr>
        <p:blipFill>
          <a:blip r:embed="rId2"/>
          <a:stretch/>
        </p:blipFill>
        <p:spPr>
          <a:xfrm>
            <a:off x="5257800" y="2362320"/>
            <a:ext cx="3705120" cy="20397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4:07:20Z</dcterms:created>
  <dc:creator>Razvan</dc:creator>
  <dc:description/>
  <dc:language>en-US</dc:language>
  <cp:lastModifiedBy>elev</cp:lastModifiedBy>
  <dcterms:modified xsi:type="dcterms:W3CDTF">2011-03-03T14:27:00Z</dcterms:modified>
  <cp:revision>14</cp:revision>
  <dc:subject/>
  <dc:title>Samsung Omnia </dc:title>
</cp:coreProperties>
</file>